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0537-4129-4F56-9653-39B5D5C5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D75-6812-4C21-858E-AA7D4E89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E4E9B-72A6-4968-B650-8532014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140AE-116C-4A23-9227-791CAAFD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EB709-C8B0-4017-A3E7-AE01ACD6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F7CB-4687-4411-82DC-F2B8B55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EE9B2-B9DD-4BB3-92F5-8679141D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76F72-188D-436E-B27C-E232C7F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596F6-86DE-44F1-9357-C6B7534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3C113-20C9-43FB-B9F3-9D33AB32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CCCE-CAE2-4375-B03B-B9BE475B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E55F3-EC8B-4314-8946-A925A96F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2EF-ECC8-42DB-A073-49AC51CC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A3A99-B007-421A-8B2A-78A22C40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8A5DD-57A4-4693-AE26-742A3463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0B7E-F391-4FF7-AE80-E5B71353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82024-9E51-44B4-B7E4-078D708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13F5A-6987-4B67-BDE2-76D01218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F1471-E27D-44E6-8167-BE7E8D74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6FBBE-67BA-438E-9106-8758F51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EA34-C96F-4C05-86E9-7FF29A35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8C0DD-E6EA-479A-84C6-8C38741D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9A7CD-4BAE-4097-9157-B704284C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D018-6728-49EA-95DD-3C3E750F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127F-36CC-4B9F-A969-4FCA6627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3369D-EE99-4C8A-AC47-53C4B607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A5ED3-B73F-4470-8C8A-3587B3BF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534783-F306-47B6-BC29-74E79A50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12E387-BE67-43D4-A505-50758BF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017AC-710D-4ED9-9437-ABFEA694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BCD5-CEEF-41DB-96C5-28A43FB0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544A2-9BC6-4781-9BF6-E8434BCA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6B83F-B265-4C6D-BF0E-38ED3797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E2E39-917F-4377-8758-3D4CDC3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E77E-E7B3-4285-B0C3-2BBB782F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FF372-5017-4247-A1DE-0F6036E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5391A-BBAD-4436-8A18-A0FFDA09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BF743-277B-4D2B-9C80-395984F5E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133C4-B7DE-4105-8416-6BD85944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94BED-7F4D-4DC0-BDD4-05CAC5EB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B8C20-62B6-46C3-AA62-BBFAE99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9F7F6-1ECC-40CE-9B41-9255C622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60B1E1-3986-439E-A950-E20A410A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ED60A-FF95-4228-915B-D2F3296C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8255A-F811-421A-9DBD-5FC7917E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FB5-5B27-4618-88D1-A1F45E2F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62F45B-FBEC-425A-ACA1-0CE7AA3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8A430-91CC-4E47-A60E-173E5341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30F2D-7533-4BA9-880B-1A31B07B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87C19-B8D6-4095-9787-0FFE7E3DD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676D0-5600-46E2-8F9D-FEBF563C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11447-6653-460E-B568-0D7324DC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877F9-DE26-4727-8022-6B848359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BFC9F-E527-435A-8A5D-6DC279AB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46160-98D6-45C0-9892-75C781FA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97FEA-9187-4BD9-9CF0-82BC3112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76EDF-073B-4C42-A4EC-879B878E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961CE-C95E-42B2-B15B-75CE88EB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64D3B-5E7C-4301-898F-5EF7B2BE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7438-EA57-4EA2-92A0-C352DEF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5FD68-5306-493E-B113-133ADEC3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DE664-E07F-4459-A871-45BDAE2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04B2B-61C0-4500-BF44-A5426E85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1619D-73CE-4ACD-9BD9-EC6AE284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45EB9-5BA5-4866-8B2D-2E66E6AA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5A258-A099-43E9-B2A2-008E00DF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62C4A-14DA-4597-8DA6-BCC54D8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9E50-8795-4EA8-BB92-E7DE8A9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AFBF7-8ECE-48C6-8BCA-72A1A6E6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D5B61-A24A-41F7-9EF5-F6BFA6AB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D12AA-1CEB-4439-82B7-79C630F2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0B540-A7B3-404A-B679-A92DEC09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08E90-FCC2-45F2-83B4-C4B56A17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9BB45-C976-4CE4-BFD8-26E55EA9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EEA00-154F-406E-B45A-A808259E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AE283-3AAB-427D-A691-266DA0DB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E9436-B1E8-4210-A9EB-849A5090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C4A85-29FF-4711-87D2-839A2758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4BF6-952D-4F8F-88F1-468700B6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FE4D6-106E-4860-98E9-49E17F1F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1B1D7-24DF-4843-A41A-DD7E7ACC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FA110B-3D98-45B4-9884-4807EC9F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1D1521-B4D5-4D30-88C2-35A1435C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EA661-8CA8-4B49-8D97-CD4ED0A0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93649-0774-4BAF-8213-E3325B9C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28ACD0-35C9-4D33-9FB4-169A411A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322BC9-0085-4F9B-86C0-AD35E726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6F06F-2F5F-44F0-89C3-DCCAF60C1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49E523-7DD0-44E1-85D6-6F04BB53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FA73-D870-4198-8F8C-9ECD6D71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23CE0-0DE8-4C14-A4D4-DAC95938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65A10-128D-4942-B805-F0A18ABE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253A34-A0A0-42C6-9F69-D637811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40C7A-1D11-4C0C-A8CC-57B04DC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3AF7E-5A5A-49F3-BB10-6B2865CA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F676E-306A-47CA-939C-3BA9E857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0EDBE-1D00-4209-9D8F-09D6DA56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836F2-2EA5-451A-8CD3-BC000F5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213F49-8562-4CE2-B8FB-F049BD51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BB9EF-BBBB-40E6-9B46-4E78C6A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59C4-B4DA-4D1A-AD22-65BA081C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1D56A-E88A-4341-A4C0-77FA7577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985F2-86A1-4448-BFE6-BCEA853F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79B3B7-A550-429C-8DD0-01975866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FC865-87FC-413B-844B-44C7D4D6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1F3B14-428C-4148-A6B8-BFDA6C7E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EA224-92E0-4BC9-88CD-C214E51A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4EC0E-62D4-4930-BEB2-445D64B2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1C1C9-8B98-49DD-8033-D4FEC76C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E40D0-133D-49B5-A063-3FA1F995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8537B-1819-40F7-9357-7662F72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5117-CEF3-4A54-BB79-8C70D7B0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8859-93BD-4EC8-B384-1532D661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683F2-101B-4A4E-8901-4714EBE4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C0D5C-C19F-4F46-ABF9-E0F09A9E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DD809-7472-44D2-8BE5-DCFA8641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CF299-518C-43F2-A3E0-E3D62625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071E7-5F78-42EF-9191-BBF16382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B317F-4546-4674-A5B0-8F7ED855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61D985-5EBA-44EE-B474-878DCB34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1D71E2-144D-437D-A93C-A162C1F5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2CCDC-7E4D-4E76-9A55-61D700B4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A4638-0F20-4B29-968A-4A08C0C4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82A8-24CE-4611-BD60-F9D562C5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9BAD5-6E5F-4AC7-A051-E0C6A1D8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D8F54-7620-44CA-96E3-5FC0B332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87A01-7151-432C-AB13-50C424BC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36A132-EAC5-48BB-BCD3-02EA932B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E60E4-BEAD-4FD7-8F4B-FB97A883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2AE644-050B-4773-AAE8-B6AB706A7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E25D1-CF9A-4732-84B3-B568719C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3AF74A-56DF-4D3A-9A2A-5B361D5E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23AE55-606C-4B25-AD68-891D36BB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2D9B09-410C-47CB-83F2-8EE293EF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185B-D963-488B-A97B-92B50A66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BFCB29-711C-4936-91B6-A86F62CE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4C41A4-5428-487C-B5F7-92BC801B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F5A2D9-33CC-4D70-8A22-98189204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A5139C-032E-4C48-A8CE-498ED830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E849E5-9160-4637-8F87-8D2A9D9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F509C-63A2-430E-84B2-2A1450EA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B54B5-6825-4E94-9FE3-9A64FBA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BFD50-3B8B-4A07-8FB9-DCC6B4A7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A2218-DB14-483C-B5F9-AC371C29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77895B-7EED-428C-8435-EFFB30BF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526-7340-4EA0-9F58-180C8C32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D8AD46-79BB-47C2-AD4B-E85C491E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9B2EBE-176C-42DB-8D6E-F3695C70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68A4B-FAA4-438E-A0CC-7E24F880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0FC5D-1DAA-4537-941D-7565A13E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82366-88AA-47C1-B546-ECC11770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F77AD-7310-42DF-9580-52A9B3EE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504C9-95F8-4826-A1D1-56426DE0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2AB87F-A7B6-451C-9FF5-F052221B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035EEE-4CF0-4722-B81A-E9A15D41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7BF37-5F9B-492E-A33E-C7D471608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B18B-11B6-4D37-9244-0B6F5E7F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9D5FD-03B3-4CF0-B057-20F2C27D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187EBA-ECB4-44C3-9687-68AB9625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35558F-8F35-435E-BF15-BC7B2E9F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8E7CC8-7E36-47EB-8EFD-B8A4A382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B61A5-A618-4323-BCF2-4DE4A7A3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A53B9B-38EA-46EF-A315-9281E2C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90D5B1-74E4-41B8-8C75-BE646294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65B14C-85F3-433B-AE71-18F137AD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0B6E70-5F03-4DE2-AF37-A22A136D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7507E6-15A3-4560-8DE0-74B4E5D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8866-BD73-489B-A2A7-F2D6E433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AF996-7130-4612-BB30-8E6400D9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A8CCB1-5EB3-4AAB-97E4-AEB96095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36EB0-BA0A-4A8D-8C92-A008C525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7FB1D0-CB9C-447F-9899-5AAC6556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B67EC5-3F04-4918-AE47-1CDD089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221228-256A-45B6-958F-2D7895C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0F6E3-013E-47A2-80B6-23A31DA5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2709E7-AD38-4831-AE0D-F9C96DE3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0553F-74AA-40A8-844A-704ABB4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F00CB-BE75-4470-A043-9C570189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712B-EA84-4DDF-BAF5-9A48003B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44E5FE-9360-4891-A41E-12126B7D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746B2-EDA3-4B60-8A55-7668B769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CB3926-68D8-46E7-87FD-DE20977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E0F764-1F24-460B-A45E-6B031D180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FEA01C-7473-4291-8089-CF3CF0BC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61AA66-1A1A-485E-9655-68477E78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5FF37-C7C9-4191-B279-4520DD39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ED2E27-4EA2-46A1-B655-8EAB151A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F27939-1569-4689-A4B0-2ACC88BF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886CCF-2F82-4204-B472-5B8A17BE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88F68-8F01-4246-8578-BD0F1582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E9829D-57A7-4736-BEC0-EB8AA2C46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58830-34DC-4EEF-8FD4-224F3AA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C37C8F-ED65-44E3-B31C-9053041C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5F114-63F9-4AA6-A5D3-6FA87204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92B711-E61D-45A8-830B-98D56FF0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60ECBB-2790-479E-8F48-573FE1AD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1C6A63-DF0A-45FE-9C58-F036F0D1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BB949D-A621-4AE5-9198-1416FBB9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5F0FB8-CC33-405F-BCDA-863BE58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574F6-AAA7-42E1-AF3C-BD78AD25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D715-A62E-47CE-BDAC-720F3D32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DE7357-9079-4875-A8C3-0B391AA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95EFB3-0998-4356-8CEA-2D49E0BB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C5BF7C-8FD0-44E3-89F9-8224FAEE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9197C8-FEC3-4EBA-B31B-A00A4133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9A97EB-5E6E-4EFB-899F-84566C31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A00DF1-48D8-4D9C-992A-20D5D83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E24B37-1FE6-4BEC-BEC0-9623E82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D4D2D-CDCE-4877-B424-D9E02BC1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CB3025-05B0-45D6-8BDF-A88BF5AD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99D73-3C90-4A5C-8638-9D5CDEB7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96778-1220-4514-BA71-B53448B6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F6BBD1-0F5F-4914-BD0F-D875B2D3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B4D538-0262-429C-8DFA-AE17F859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781EB9-DC3D-4CBE-8D6D-5818A34D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C2B5BE-FD5A-4100-BCE8-EE8EDF3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B058F6-3410-4F12-98BF-7155FF8E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F0559-5E30-473A-8685-CDDAA092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D5E501-0E18-4298-905D-74FE519A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BBF664-DE03-44EE-A196-1488FF39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A4BCFA-90BF-4B2A-95C3-8B986A09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D059C4-91CA-45BC-B059-A3CD8E94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5C8E-BF4F-4E94-A2B6-D49D86AA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3ABF-A379-46D4-9FCA-ED8DA680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620EEA-E544-4550-948A-8F1C2110F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76B71A-B32A-4C18-B6DC-71FA447B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C5A8DC-2C35-42DA-82C8-7F77894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E54ED0-034B-4A96-9829-E231F64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3EF23B-BE61-4E9A-93D9-8E1A6B2C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D70788-05E2-4FBB-B977-0680357D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E76299-E771-4AF5-8740-F89BC295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BE3CE-489B-489B-82E3-BC7F2ED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4A413E-6677-48F6-987B-087AC10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D34B79-EA2D-4FEE-956A-02FEBEA8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777D-C9BD-43DA-A40B-B735992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E3B125-194A-40DB-8E80-06BD433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BB40AD-970F-4FF1-B37C-990A7271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61BE1E-7D73-4A6E-B64D-B9890CBE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0C8C7DB-B99B-48D1-BB4D-B3F90D24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317421-3B92-47C2-ABD7-95F70FE3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045877-D897-4405-A539-1BA78443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3C43B6-62D9-4BBE-95EA-1BA0F4E4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11050E-7AC3-44B7-B73D-4ACD6381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789608-242B-4D5C-8DFB-6BD1E74A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374F91-2CB7-4FF8-8D67-B0A6C77F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8D39A-EF84-47AB-9863-113AEDC4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FDE19F-56D6-4227-8CB9-FBFD174A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29C7FF-2B3E-43F7-91CA-65578583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096863-C7A7-4CB7-AEEA-2373ED72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2250AD-CCD2-4C60-9183-F077E26F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46EB30-D49D-44FB-9920-1ADEAE9B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29F816-2C21-4CD1-8CCD-357B52F7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41FB20-8569-449C-A573-C8D72307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6AC057-B411-48B3-9BF8-0FC654ED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EC9B67-0286-42D4-B21D-217E9A74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A5319F-1F21-40F9-8F75-68BA33BF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77841-F9DA-4666-9842-8788CA3E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B6A2A8E-082D-4CD4-8EBF-C868A2B5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F723F6-EA38-4157-A827-0B0AB03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8C1649-E45C-44EC-B855-B360FD9F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FEB29F-2195-4FB8-B1CE-6B4AD6B5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31DAB65-60B1-4772-9326-9AA7174C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807CCF-A0D6-44B0-8014-FFF710F2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6C4476-89C3-43D2-AFAE-B72F67BF6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38501-FD94-4319-888C-988A06A6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42D5-1EA5-473F-B958-9BC15A50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9754-845A-4156-A204-66944579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D596-28A3-49A2-9BC3-94A94F0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FA4-DF78-47A0-B48F-A001B6DD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305D-0D7C-4245-806E-BCFFD29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4EC39-202D-4831-AACB-AE6627C68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AD8A8-A0F2-41D6-BBCC-89EA7EAC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33F21-FC24-419E-9D57-B2FEC8E7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BAB26-2C79-448A-8568-67598140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E2EB2-6971-4256-860D-1FDDD415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55936-1085-4AE0-876D-B610146E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C7FA7-0C5F-4848-A6B5-D396F976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22FC5-7B93-43B3-89AF-68FB3E2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3881-D3E9-4D99-9C74-D927023E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AB3-C90C-4A4E-AF4E-D7B77075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CF42-0573-42D4-9D9C-30A4A4E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DBDA-3F1F-4003-8A68-34DBD8125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54D04-0D22-487E-9AC5-4D592CD82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E80ED-3235-4FF8-9EE5-49268093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423AE-ACB1-4F6F-8227-A76C8A98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38664-D031-4CE9-8EB2-D677D464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091D-5966-4059-A30B-CB369EFF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11D8C-98CB-4A73-9C17-B7DDE82E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4B965-4595-4023-BE3A-08CB0652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8BA1-A751-4022-AAB7-D0C8089F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9D5-9E71-41B9-94DF-8AF85623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E17CB-CAA2-4A2A-B12A-5CA62C96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45EAC-356F-442E-BCE0-48E93D8E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D5CE-C980-4F7A-BA09-9ABFCDE5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14011-BBB3-4F36-8121-B1E7787C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D665E-4B12-459C-BBB3-A8BCF399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6904-74D3-454A-8F40-F8A77D20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8D3B4-A1D7-4894-BE9F-3B066A9E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0BB8C-6275-44A3-93E3-B021E46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CE477-F3BB-4412-9301-05F5F851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24330-36E6-4327-B9AE-0B16D898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4A4-C28D-407D-9320-72B51A4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FBCF5-547F-4A09-9F99-111C0AF5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53B55-45AF-4E9B-B999-F8172A1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ECE2-0762-4C2F-9DB0-3B52CDB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0661E-B23B-441A-ACD1-64AB882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565B-362F-474E-9DFD-2849D585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FC81D-2CC7-4BC0-8974-591B6389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50A8B-323F-4974-A0C4-C0176458E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16B10-F4EF-4D97-A293-3BE7C60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39B9C-BF34-4594-91D2-0CBB047E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F4B3A5-3761-43E4-9D64-00B1C271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11F8-42EE-4914-8A00-278ED32E567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2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ftr" idx="2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2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6441-9F11-404F-A150-E9EF000DB5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dt" idx="2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ftr" idx="2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2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F1F-5284-4929-BB3F-33308D7818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dt" idx="2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2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3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FE0E-8CE2-4533-9EE7-476C22256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dt" idx="3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ftr" idx="3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sldNum" idx="3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FAFC-F86A-42D8-9734-6B99506A91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6950-B75B-4E74-8CAE-666857D64B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0E14-27E4-42D9-BF29-8CD89DECE3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dt" idx="4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4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4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37D4-8C5F-4DD6-9367-3D479C1645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dt" idx="4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ftr" idx="4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sldNum" idx="4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143E-709C-44E8-AF37-4B7BB6145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dt" idx="4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ftr" idx="4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4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76B5-5DBE-488E-8233-3A65C3B130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9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0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1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1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2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PlaceHolder 1"/>
          <p:cNvSpPr>
            <a:spLocks noGrp="1"/>
          </p:cNvSpPr>
          <p:nvPr>
            <p:ph type="dt" idx="4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ftr" idx="5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sldNum" idx="5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D8CE-4F40-4233-A197-125998DC09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6229-3032-4E7F-96CC-ECE5676B8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7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7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7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8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8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9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PlaceHolder 1"/>
          <p:cNvSpPr>
            <a:spLocks noGrp="1"/>
          </p:cNvSpPr>
          <p:nvPr>
            <p:ph type="dt" idx="52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ftr" idx="53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sldNum" idx="54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D01D-DC14-4BFE-BEF9-6D4B41429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4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4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5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5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6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PlaceHolder 1"/>
          <p:cNvSpPr>
            <a:spLocks noGrp="1"/>
          </p:cNvSpPr>
          <p:nvPr>
            <p:ph type="dt" idx="55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ftr" idx="56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Num" idx="57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36F1-4736-4658-8751-3CACAEAF54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1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2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3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PlaceHolder 1"/>
          <p:cNvSpPr>
            <a:spLocks noGrp="1"/>
          </p:cNvSpPr>
          <p:nvPr>
            <p:ph type="dt" idx="58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ftr" idx="59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sldNum" idx="60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9344-7BC3-46BE-B4F0-3DF75C6385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8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8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9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9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0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0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dt" idx="6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ftr" idx="6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BF3B-E8F6-46B5-84D2-C56D6CCD8D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5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5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6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6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7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8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PlaceHolder 1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17B2-37D0-4827-AC99-691F3EA74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5" name="PlaceHolder 1"/>
          <p:cNvSpPr>
            <a:spLocks noGrp="1"/>
          </p:cNvSpPr>
          <p:nvPr>
            <p:ph type="dt" idx="6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ftr" idx="6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6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3235-5391-463F-A3F5-AA71A25113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9F01-AFF4-4339-8D76-285C47D6E1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7" name="PlaceHolder 1"/>
          <p:cNvSpPr>
            <a:spLocks noGrp="1"/>
          </p:cNvSpPr>
          <p:nvPr>
            <p:ph type="dt" idx="73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ftr" idx="74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sldNum" idx="75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BF17-9C6E-4A96-A0E1-E680D5C2A0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8" name="PlaceHolder 1"/>
          <p:cNvSpPr>
            <a:spLocks noGrp="1"/>
          </p:cNvSpPr>
          <p:nvPr>
            <p:ph type="dt" idx="76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 type="ftr" idx="77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 type="sldNum" idx="78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C267-FF4B-448D-80BE-93F237A89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D058-9695-4ED4-BE74-9D3FB7859A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Respon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21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21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22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22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23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24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entury Gothic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6B21-F0D7-4991-8A8F-D8471D3EACD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3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4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6B0B-43CF-4334-93DF-26E55725E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6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6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37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37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73DB-5229-4A99-ABEA-477F71E8F44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Respond Question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dt" idx="19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ftr" idx="20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F822-21E2-4004-9914-E6676E187D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yphens, Ellipses, Parentheses, &amp; Dash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Brenham Writing Room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Created by D. Herring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440" y="-15228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yphen -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hyphen is used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 words that together form a compound adjective placed before a nou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 o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ixteen-year-ol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chael Jackson had a v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igh-pro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urt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out numbers from twenty-one to ninety-n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venty-f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tudents turned in an ess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11160" indent="-4906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 a word break at the end of a 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61800" indent="-420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break between syllables. Ex: stu-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lipses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ellipses to indicate that info has been left out in a quot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inal Passage: I knew that the places I wanted to go on vacation, such as Hawaii or Jamaica, I couldn’t afford.  -Ms. Picket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s. Pickett told us, “I knew that the places I wanted to go on vacation . . . I couldn’t afford.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using ellipses, leave a space before and after each peri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entheses ( 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 parenthesis to set off extra information that is not essenti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dog’s favorite toy (a stuffed alligator) is laying out in the yar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hould generally avoid using parentheses in academic writ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shes 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dash is created by hitting the hyphen key tw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 not put extra space around a das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a dash to set off words for emphasis or to indicate a paus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inal exam—worth 15% of your final grade—will be next Thursda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will be no make up exam—no exceptions—for this cou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17:48:23Z</dcterms:created>
  <dc:creator>dawn.pickett</dc:creator>
  <dc:description/>
  <dc:language>en-US</dc:language>
  <cp:lastModifiedBy>Nadia Williams</cp:lastModifiedBy>
  <dcterms:modified xsi:type="dcterms:W3CDTF">2014-03-07T19:52:05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Timer">
    <vt:bool>1</vt:bool>
  </property>
</Properties>
</file>